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himes.wav" ContentType="audio/x-wav"/>
  <Override PartName="/ppt/media/image16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5C0A-CDDB-49E9-8B5E-091766CC23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Компьютеры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357F-6794-4A48-846D-21334E5538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стройства диагностики и локализации почечных и желчных кам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ечение зубов и проте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компью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микрокомпьютерным управлением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интенсивного медицинского контроля пациента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3FE5-ABEA-4F96-981B-1B36CFA746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Calibri"/>
              </a:rPr>
              <a:t>Что и как мы узнали  о применении компьютеров в медицин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Взяли интервью у местных работников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ровели опрос зна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Нашли сообщения  в печатных изданиях о применении ЭВМ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одобрали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18F0-8EDA-4F08-A8A5-FBE48B83DF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Calibri"/>
              </a:rPr>
              <a:t>РЕЗУЛЬТАТЫ О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9575-9B2C-46DC-ABEF-C3BB6CEA70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Чем раньше выявить заболевание, тем проще его ле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Люди стали больше доверять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96BF-A5B5-4A72-AC9C-BEB64B7024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E47C-704E-4A31-9BFC-C24799A034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используютс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храня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в своей памяти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стории болезней пацие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BB80-7558-41A0-94D6-4DA005920F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позволяют установить, как влияет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загрязненность воздух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заболеваемость населения данного район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оме того, с их помощью можно изучать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влияние уда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45AD-6EF9-420E-90B7-C3F49670A0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Компьютер - па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ая техника используе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4A1B-25AB-4169-89F2-024234382C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24100"/>
                </a:solidFill>
                <a:latin typeface="Calibri"/>
              </a:rPr>
              <a:t>Кроме т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ые сети использую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жидающие операции транспла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Банки медицински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FBD2-FE63-4413-8CD5-E3FC149423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К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FD41-FF72-4DCF-9EB3-1BCF31ECE9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М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крокомпьютерные технологии рентгеновских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запомненные в цифровой форме рентгеновские снимки могут быть быстро и качественно обработаны, воспроизведены и занесены в архив для сравнения с последующими снимками этого паци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З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адатчик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(водитель)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ердечного рит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6CD2-CE5E-4CAC-8C7D-832E5D530D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тройства дыхания и нарко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учевая терапия с микропроцессорным управл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D5F0-7D21-4AA2-998F-DF75E505B0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1D0D-A49A-4D65-B7D2-CA91838E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40C-BFED-4C8F-9AE6-4F6B238D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928-9D7E-4AF7-AC46-56C0592F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501-D737-4044-84B3-F0904D8A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CB98-79F5-4519-9E77-A63E7701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1A20-9D83-4702-85A5-DAA6F022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27C0-4C3F-4D6E-ADB8-0C71AB57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CE99-9198-4704-8BA0-875C56F4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FFAA-197A-46B3-98A7-91770760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BFC2-BEA8-437D-9F2F-B1CCE2BC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E386-8445-439C-A976-73221160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BCE-7E29-4A41-A0DA-60DDDA23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BBDB-A292-448C-B8AB-EFD4A071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D7B1-11AC-4129-942A-A35D5E9D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B426-F188-412A-A494-8559424E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3711-F0F5-42D7-ABC0-AEFFF0FC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A0D8-6AA0-46B0-AA9C-E911F554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AD67B-BCF2-4C55-A481-14770BF6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8DBDF-8478-4511-B49F-5895A1C4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8047A-169E-4323-AF60-C7D68097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6F942-2272-4E2D-A36F-64800597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AAB82-55FE-476D-981F-E20F93C0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D0F-B8C5-469A-A2F6-EA5AD6D7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811E-4420-4D59-ABEC-C53147F1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D326-FCC6-4FA4-9087-C2860DA0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EDB0-0D10-4D06-B620-4ED64B7F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449D-2492-4469-85AF-E3312194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9C8B2-C4F2-4C60-9003-A5C518CB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CADA9-81E7-4327-A2CB-5F3AAF8A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805D6-B060-446A-9773-0C4390D6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384EF-5066-48BD-8C21-5C1A55B8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6AF93-5F4F-4F83-AF17-018FCF96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0DCDA-68D1-4A1B-B442-58FF5B69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2B5-DBE9-4D19-98FA-16995C42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E80F9-2F6D-472E-9F0B-977D67A4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8BA58-E399-4C52-97D2-3849E876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9E78F-532A-4A0B-AD57-9B2CBFB7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1B63E-F559-41DA-BAD1-DE31BCD0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26347-AD58-498F-8931-C16029DC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3F3E9-708E-46D5-A00F-EAC33B88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8527C-8AA1-4870-BCB7-6F51DFF0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00212-8DF8-4B2C-9B30-8A5A6417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86BCE-E082-4298-A1B2-5E8CF1A7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D8FDA-E14C-4B57-B372-6E681120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092-3C79-406D-A70F-6213D0CC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349E3-17B4-4D9B-8FCC-B9D14C12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59CAD-FF27-442D-8EEF-ABA5E276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09420-3FF8-4E91-8FD8-C4A7D43E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C67D3-8162-4507-9A89-C90E49BC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C8893-F164-4902-A9CF-1A80EBA5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DF0C0-7989-45FF-B36C-FE03D8F0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A1F06-3A9A-480A-B4EF-6369FBF1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AE1C8-C7AC-415D-A273-5B0473DD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54817-0374-4825-8005-37E2C6AC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7DCCE-CE1E-4148-A783-3B721994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95D-C890-49D5-A84D-B23048CF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ABCEB-EB72-4E2F-A015-CA529CEE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EBD31-0740-4F96-8C00-DC7B5A89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ABEB1-604F-41DF-BB8D-E77C494B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FCC88-42C9-43C6-B7BD-C16404D9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EACF3-0B34-4F5C-B7E2-BDA47585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40BBE-6892-413F-B237-61919CD2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69B58-338D-415A-A9C8-E26593B4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4EDBD-3E70-4C0F-B850-29D875C7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E9F17-4AF3-4BF8-A061-5FCDE6A6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C9F89-06DB-44C0-A225-0B7D6BBB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12F-421B-45EE-A63A-D7AECD04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6A240-6248-416A-8AB8-AA561C0A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33C81-21E1-4E3C-B6F2-50047C88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B09AF-F7BF-4E95-9B11-5B3C30F7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1462F-5274-4CC0-87E8-CD0CDF23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A5F4B-0814-47FB-960F-266E0287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6B4B8-73D4-451A-8CFD-5B04CFB5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11D62-798C-45F8-8B97-D5160E51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9322A-DA96-4FC8-A572-234E7D2E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AA3F1-5A9F-4080-8448-795310FC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2C1A2-5AA4-496B-AA36-FA8C3051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841-F902-4FBF-8F3A-B4CD1A89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2DEDD-4B71-4694-8018-7B9BA84F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16CF2-FB76-48A7-B167-6CBE5586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7D76B-3CE8-43E6-8415-096F2DD6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F7267-BD22-437F-835D-8A02C8FC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55411-809E-4175-89E7-8216DFB5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426B5-C20B-4D29-8CEA-2842EE98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59108-B8C9-47CE-BD8F-37F9FC9D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2D935-9FC2-4130-8F40-D28C58DC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960A1-C306-42A1-90BA-39ED3DEC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3A90C-AE52-4E98-9000-BF4B5052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C60-5977-4A17-8577-E6155857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D1C49-D96C-475E-B070-DAC66353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3C4D8-7971-4242-928F-6340CF9F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BA8DD-350D-43FF-BA8E-F0E055E3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F8881-DD9B-46FB-8786-DB57C490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EC408-5C2F-402A-959E-4C8A0A83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D121C-B694-4428-83EF-09E3437E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E81A3-ED6E-46B7-8C67-7FC88A64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кутний трикут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 сполучна ліні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A855-78D9-4DEA-B012-856B372C74E8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7FFC-0B3F-464C-8E3F-FD9460AD43B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кутний трикут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увати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іліні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іліні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іліні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іліні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 сполучна ліні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8384-67E2-417C-A096-BB174958D8A4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F0AD-259B-4E02-B0B0-4A2ED6C7E20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0183-05F1-44EB-8609-EFB7C3D08064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C271-62F0-4B57-B29E-A104C7B6BE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8461-86EE-4A57-BFA9-FA01E9B26057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6D29-31B9-4416-9583-89AA45DF8E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77AD-5F59-47BA-9A40-8B18E0A7702C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C0BB-C98C-42D8-B787-CCB4EE7BFF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DC91-EB57-493C-B2C4-32D35A213829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C149-66C9-40D4-AA4C-07CCAD627A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89BA-72BA-414F-8D16-64881AFBE17D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66E7-26F9-40E0-BA79-DB8E88435A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іліні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іліні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кутний трикут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кутний трикут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 сполучна ліні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B3DD-AF41-4204-82E2-05DDCEB01FB4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73D5-90EC-4689-B166-6E29C93129B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384120" y="115920"/>
            <a:ext cx="8235720" cy="2462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M00361_"/>
          <p:cNvPicPr/>
          <p:nvPr/>
        </p:nvPicPr>
        <p:blipFill>
          <a:blip r:embed="rId2"/>
          <a:stretch/>
        </p:blipFill>
        <p:spPr>
          <a:xfrm>
            <a:off x="5334120" y="2666880"/>
            <a:ext cx="3538440" cy="319428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устройства диагностики и локализации почечных и желчных камней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лечение зубов и протезирова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помощью компьютер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систем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микрокомпьютерным управлением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интенсивного медицинского контроля пациента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838080" y="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4a00"/>
                </a:solidFill>
                <a:latin typeface="Times New Roman"/>
              </a:rPr>
              <a:t>А такж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-231840" y="0"/>
            <a:ext cx="8583840" cy="22366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-360" y="2149200"/>
            <a:ext cx="79246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Взяли интервью у местных работников здравоохран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ровели опрос знакомы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Нашли сообщения  в печатных изданиях о применении ЭВМ в медицин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одобрали фотограф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255600" y="189000"/>
            <a:ext cx="80280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8"/>
          <p:cNvGraphicFramePr/>
          <p:nvPr/>
        </p:nvGraphicFramePr>
        <p:xfrm>
          <a:off x="0" y="1071720"/>
          <a:ext cx="7616880" cy="553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71720"/>
                    <a:ext cx="7616880" cy="55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-324000" y="96840"/>
            <a:ext cx="8340840" cy="1403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Чем раньше выявить заболевание, тем проще его лечи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Люди стали больше доверять ЭВМ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-291960" y="-268200"/>
            <a:ext cx="8180280" cy="26938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  <a:ea typeface="Times New Roman"/>
              </a:rPr>
              <a:t>Компьютерная аппаратура широко используется при постановке диагноза, проведении обследований и профилактических осмотров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именение компьютеров переводит медицину на иной, более высокий качественный уровень и способствует дальнейшему повышению уровня и качества жизни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210024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D:\TOCD\Ищенко\Электронная версия учебника по информатике 10-11\0014-2.jpg"/>
          <p:cNvPicPr/>
          <p:nvPr/>
        </p:nvPicPr>
        <p:blipFill>
          <a:blip r:embed="rId1"/>
          <a:stretch/>
        </p:blipFill>
        <p:spPr>
          <a:xfrm>
            <a:off x="714240" y="99072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используются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хранят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в своей памяти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истории болезней пациентов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позволяют установить, как влияет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загрязненность воздуха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заболеваемость населения данного района. 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роме того, с их помощью можно изучать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влияние ударов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ая техника используе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ые сети использую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,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ожидающие операции трансплантаци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Банки медицинских данных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211280" y="2852640"/>
            <a:ext cx="4932360" cy="19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Lucida Sans Unicode"/>
              </a:rPr>
              <a:t>К</a:t>
            </a:r>
            <a:r>
              <a:rPr b="1" lang="ru-RU" sz="24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7" descr="D:\TOCD\Ищенко\Электронная версия учебника по информатике 10-11\0011-3.jpg"/>
          <p:cNvPicPr/>
          <p:nvPr/>
        </p:nvPicPr>
        <p:blipFill>
          <a:blip r:embed="rId1"/>
          <a:stretch/>
        </p:blipFill>
        <p:spPr>
          <a:xfrm>
            <a:off x="0" y="228600"/>
            <a:ext cx="3684600" cy="37051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6"/>
          <p:cNvSpPr/>
          <p:nvPr/>
        </p:nvSpPr>
        <p:spPr>
          <a:xfrm>
            <a:off x="36860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304920" y="4495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4140360" y="0"/>
            <a:ext cx="50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011240" y="573120"/>
            <a:ext cx="8334360" cy="33764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36800" y="4628880"/>
            <a:ext cx="450684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a00"/>
                </a:solidFill>
                <a:latin typeface="Lucida Sans Unicode"/>
              </a:rPr>
              <a:t>З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адатчик</a:t>
            </a:r>
            <a:r>
              <a:rPr b="0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(водитель) 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сердечного ритма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7" descr="D:\TOCD\Ищенко\Электронная версия учебника по информатике 10-11\0012-2.jpg"/>
          <p:cNvPicPr/>
          <p:nvPr/>
        </p:nvPicPr>
        <p:blipFill>
          <a:blip r:embed="rId2"/>
          <a:stretch/>
        </p:blipFill>
        <p:spPr>
          <a:xfrm>
            <a:off x="0" y="3733920"/>
            <a:ext cx="3073320" cy="31240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369576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-201600" y="4724280"/>
            <a:ext cx="7900920" cy="14511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19360" y="-36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4a00"/>
                </a:solidFill>
                <a:latin typeface="Lucida Sans Unicode"/>
              </a:rPr>
              <a:t>Л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учевая терапия с микропроцессорным управлением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Picture 8" descr="D:\TOCD\Ищенко\Электронная версия учебника по информатике 10-11\0013-2.jpg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38304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369108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7:19:39Z</dcterms:created>
  <dc:creator>user</dc:creator>
  <dc:description/>
  <dc:language>en-US</dc:language>
  <cp:lastModifiedBy>RomaK</cp:lastModifiedBy>
  <dcterms:modified xsi:type="dcterms:W3CDTF">2014-10-31T12:41:37Z</dcterms:modified>
  <cp:revision>20</cp:revision>
  <dc:subject/>
  <dc:title>Компьютеры в медицине</dc:title>
</cp:coreProperties>
</file>